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DE9-8F0A-45DA-A8DB-1E96244B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9AD-AB57-45DD-8265-D4B65EE9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F20D-6C5C-4AA9-B5F5-031E9277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991-F8BF-4BA6-AEB7-BE734153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5DE-2AC4-4E23-A7FD-CE606B86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FF5-57B1-476F-BE3D-54A7E71E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633-FB3B-4263-B51B-9690F4E5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74E-D2D1-4A69-8C9D-42ABA6D9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05C-D4B6-43B7-B2F7-98295523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87F-B9CF-4204-AAED-71D32524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085-93BF-4EAC-9FD8-1A198980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F5C-A022-4CDB-99D7-28A165A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B2D2-BD02-4D2F-8DF4-E3AFA4568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’s Misconceptions in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ildren come to science teaching with ideas about most phenomena with which they have any experience. Many of these ideas are wrong when compared to standard science understan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9:47Z</dcterms:created>
  <dc:creator>Edward Robeck</dc:creator>
  <dc:description/>
  <dc:language>en-US</dc:language>
  <cp:lastModifiedBy>Information Technology</cp:lastModifiedBy>
  <dcterms:modified xsi:type="dcterms:W3CDTF">2009-11-01T18:43:09Z</dcterms:modified>
  <cp:revision>53</cp:revision>
  <dc:subject/>
  <dc:title>Children’s Misconceptions in Science</dc:title>
</cp:coreProperties>
</file>